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826-4AD7-4265-B744-E9CDF853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887-83C2-498D-9594-29AFB3E4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6A1-8BA9-482E-ADC3-F21C9F9B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6D3-8612-4ABC-B32F-B92F7CED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6DFE-E4A6-4D1A-823B-A944E62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47D-A868-4647-99C8-2DE9F59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CF9-F76B-4185-BA8C-33924D7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71A8-7A0E-4AD9-AE92-F276173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0736-B114-4F25-BC52-C0CD0E10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71CB-F836-4ED0-B320-EE275D8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DCA-90DD-4021-95F2-65612A6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923-EC51-4E6E-A8AF-A1908C3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339-97B0-4DA0-8DAE-4544C5E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388F-A456-4D30-87D3-39A40E3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7025-B740-467A-812B-E67FB6C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9892-CAE2-4A89-A441-A805C951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3A0-C429-4A4F-8431-EA4679BC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2BB2-5E69-48E8-A4AC-22D718BF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5D26-8B17-4127-B3F4-FCC0B47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D678-0E6A-41C7-BAC9-529831F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4775-607C-4990-B57F-8A2130B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37AD-83B7-443E-85FB-B4F4E559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E70-32C5-4501-81BE-616256A5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CF4B-164C-43F4-9CAE-80D12DC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AF9B-0791-4CCF-9B8D-0DC0920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0762-CBF9-467A-92D6-AD98B7F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CCFE-856F-4B77-A3C3-2925E05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D8A9-5E07-4841-A227-985550A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9A74-BF0D-4549-AE4B-A453176D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4C9E-22B5-49A6-9158-B21C0CF8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4CA3-D388-4D06-9D99-FE38851A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2C94-AE47-4B0D-B16F-3D0E295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4387-B534-487B-959C-D501AE5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147-DB96-428E-AE53-7089060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2165-98F0-4735-BD81-DA670F60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8429-7EE7-4F3B-B745-92974F49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BFCE-24D5-43F9-9233-9F7493C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034D-F936-4D0F-87C1-7AA297B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1662-755C-4C34-BBD9-D9137D9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6695-3B6B-4E00-B01B-8AA51BB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D385-39DE-469A-A0A2-CC34BCA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14D2-C6B8-4B96-AA53-F71F8DB1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A820-AA03-401D-B0C2-7D84A9E3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9C5-D322-466C-8837-41AE979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EDD-D726-4891-8505-3486C7A5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FFF-979B-466B-91B1-BBB962F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1A6-D62C-46C9-9047-6B9D43A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F94-3521-4113-8452-0729560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4A76-6D7A-42D7-A418-195EBB2DCE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60A-9C18-42D1-8D91-A4D40FD61BB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E30C-E4AC-4E09-940D-57E19435AD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FFC-4872-45B0-B5DC-2CE54AF454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 a comment to your previous program to explain who created it, when, and for which pur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3779-623B-4D1C-A951-D66849337F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: +ve or –ve natur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: +ve or –ve decim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“Hell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0B16-2236-453B-9D8F-D6027A86E2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function called myCircle()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r as 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pi as 3.1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area of the circle as pi*r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 perimeter of the circle as 2*pi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following mess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ircle with radius …, area=… and perimeter=….”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placed the dots before with the radius, calculated area, and calculated perimet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r to be 20.5 and re-execute the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636-9496-43FE-88E0-681D09E9C7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ti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 programming, using the Jython programming languag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ill be written using the Jython Environment for Students (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tutorial, you should be familiar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ons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E112-736F-44BF-8A69-3C71C77FC2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Jyth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ython is an implementation of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th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 written in the java programming 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of writing cod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ox (for codes you want to save in fi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ox (interactive window) for ad-ho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151-1445-4866-9B72-F4B6693CA8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6" descr="JESBlackWindow.p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6236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F7A-3124-491B-B7D9-3CBFFBA90B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eractive window (black box), wri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 World!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” + “ pyth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"Hello” + “ JES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add a space before the second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get the last typed statement by using upper 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double quotes before and afte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87E-B39F-4B8B-B570-9319B58DF6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n be written only in white bo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funcName(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Hell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ake care that you must make ind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cute a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it first with to 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load bu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lack box write:  funcName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2B9-CD12-48E4-BD33-5A1B52FC84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s your name and your ID; 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434960" indent="-457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 13009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=10, y=20, pr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4E1-BB45-4A5F-82A2-DCC9E0D1E0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your output should look li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134898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 = 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=2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=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=-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1587-6173-4489-9F82-7DD1A8F893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are very important for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ot being executed. This is just for your underst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rite a com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# in the beginning of the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his program was created by Dina Said as an example for CPSC771, week1-lab1 of problem solving on March 4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9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B381-FB9F-49F0-8745-6040441FC7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04T19:56:12Z</dcterms:modified>
  <cp:revision>152</cp:revision>
  <dc:subject/>
  <dc:title>CPSC 203</dc:title>
</cp:coreProperties>
</file>